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4011054"/>
        <c:axId val="44577624"/>
      </c:barChart>
      <c:catAx>
        <c:axId val="1401105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577624"/>
        <c:crosses val="autoZero"/>
        <c:auto val="1"/>
        <c:lblAlgn val="ctr"/>
        <c:lblOffset val="100"/>
        <c:noMultiLvlLbl val="0"/>
      </c:catAx>
      <c:valAx>
        <c:axId val="4457762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01105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34341-3F48-4508-A511-C2AF7A75B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B86C9-406D-4DB2-8C43-EBDF91910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26EFA-5E0E-4E3F-A2D1-34DD6D77E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D6CAC-BCD4-42EB-90BE-F7A08D997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41D96-BD51-4028-8FB0-ACA47F1A3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800F1-0C69-452C-85BA-9527E74B4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5DECB-4133-436C-A1FB-7F8CFCB22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F1216-92AA-4780-B27B-806FDCF5B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7F786-EEC4-4733-BD25-A374E083A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4AAA0-556E-4B0A-9AEF-640805128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39577-28F6-4722-8B5D-2619CEA51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23C02-7070-45F0-9407-4981724FC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80FC46-184D-475A-829B-FC90AB89798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