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0413"/>
        <c:axId val="30316882"/>
      </c:barChart>
      <c:catAx>
        <c:axId val="6380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6882"/>
        <c:crosses val="autoZero"/>
        <c:auto val="1"/>
        <c:lblAlgn val="ctr"/>
        <c:lblOffset val="100"/>
        <c:noMultiLvlLbl val="0"/>
      </c:catAx>
      <c:valAx>
        <c:axId val="30316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ED0-6F60-4345-B74B-D363024A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245-173A-435A-9816-5D46D7A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B21-B194-4F39-B2EA-6F6EB3B3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15F-1882-4E16-9972-D1C87FD0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622-F4A5-4BE5-AF64-2C359552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1A9-DEEC-471B-8C85-6E9D64B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057-EFB6-4D50-9B2D-B10CA0D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CC2-B3BA-4F41-9D36-1387575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BD2-FA65-4FC6-92E0-BD08A184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AAA-72DB-4E38-A83C-CD04A32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93F-C07F-4419-A168-FA8B4E6E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49F-4F23-4BBD-90AC-7F921F3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B8A70-EEF1-41E3-9FB9-97679FA5B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