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70803"/>
        <c:axId val="52448323"/>
      </c:barChart>
      <c:catAx>
        <c:axId val="20770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48323"/>
        <c:crosses val="autoZero"/>
        <c:auto val="1"/>
        <c:lblAlgn val="ctr"/>
        <c:lblOffset val="100"/>
        <c:noMultiLvlLbl val="0"/>
      </c:catAx>
      <c:valAx>
        <c:axId val="52448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70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098-91C3-4384-9A6F-9EDF2717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E4B-AE92-4B99-830F-7CF1039A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CCF-CDC6-4D70-B104-05121093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97B-A709-40AC-B546-DF11CD76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AC9-2D72-4974-8311-3476EBC7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D98-9CA8-4B7A-BBFD-5E258EF2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022-A09B-4B0D-923E-550D354E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B09-2D13-4CE2-BA87-F40D16D0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B10-00CD-44D4-8C2F-3039548D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EDD-5B13-443D-BAB9-42D9F98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9EF-69BB-4270-ADFD-3B497F6B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6E7-D507-4702-AB3A-23A9724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8604C-65A7-407C-BB3B-841124442F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