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12314"/>
        <c:axId val="58879855"/>
      </c:barChart>
      <c:catAx>
        <c:axId val="802123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79855"/>
        <c:crosses val="autoZero"/>
        <c:auto val="1"/>
        <c:lblAlgn val="ctr"/>
        <c:lblOffset val="100"/>
        <c:noMultiLvlLbl val="0"/>
      </c:catAx>
      <c:valAx>
        <c:axId val="58879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123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F38-B8C1-4DBD-9F92-9F0CD63A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BEA-EEE9-41EB-BAD8-E860399E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047D-73A4-4964-A77E-471D0B40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150-5EE6-486F-AA54-56F2F935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568C-8A68-4886-B5FC-B6815B24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3B49-4208-46DC-B7A2-07CB849E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10BD-49C6-46C9-806E-89630698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93F-B0BF-4F1D-B2EE-C317FFE4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997E-BA3A-4B96-BB17-5F51B2F7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169-DF7A-4D28-A033-8399D7EC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C88-5E27-4BAC-BF75-75033E28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C4B-607B-4EAE-AC20-91E752BA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D68D3-AD5C-43A6-9213-90FCFD256E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