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682436"/>
        <c:axId val="23435300"/>
      </c:barChart>
      <c:catAx>
        <c:axId val="366824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435300"/>
        <c:crosses val="autoZero"/>
        <c:auto val="1"/>
        <c:lblAlgn val="ctr"/>
        <c:lblOffset val="100"/>
        <c:noMultiLvlLbl val="0"/>
      </c:catAx>
      <c:valAx>
        <c:axId val="234353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6824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334B-EF7E-4D50-A52D-0F4667D8B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7387-1274-4A0A-8FE2-0A760FAF0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6202-D882-4556-AD6D-559E1ABAF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6E14-CFCE-4AFC-8B66-95F05B949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091C-E28E-4D4F-8B3C-6FB466234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6FCE-6409-46CA-A07D-16CCD7BBE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5711-73FA-47A9-964B-3D15E716B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196C-684C-48EB-868D-3F43E3A7E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B6B3-C318-4371-8C00-5C71685CA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8404-800B-4E1F-86D0-B6598C332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A87E-1DA1-4464-8E64-EC6B17E01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384E-E3B1-4831-A392-050BF31F9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024527-B146-43D4-B39A-FE515FF133A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