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7328"/>
        <c:axId val="17916412"/>
      </c:barChart>
      <c:catAx>
        <c:axId val="8667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16412"/>
        <c:crosses val="autoZero"/>
        <c:auto val="1"/>
        <c:lblAlgn val="ctr"/>
        <c:lblOffset val="100"/>
        <c:noMultiLvlLbl val="0"/>
      </c:catAx>
      <c:valAx>
        <c:axId val="17916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7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ADF-18E6-4E1C-A0DB-CF6BF477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B50-2853-4601-A350-10DB254E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824-92E4-4721-B5D3-37181F2E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F51-84D4-4025-8B1D-18910382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4AF8-87F2-4A83-96EA-F49A2538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486-51E6-4AB0-8E91-AE412E64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5A0C-E1BB-444A-88FF-B2859CD9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6F9-2C4F-4C43-9311-5DF6BE64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459-4714-4D84-8AFB-2A3E46C2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005-039B-42A9-9F2C-F36D5B7D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006-CEE8-43FB-A736-4EECEC67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97E-4270-44D4-856D-56DD8C15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05E94-879B-4FE6-9D5E-720DF0141F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