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50456"/>
        <c:axId val="51557702"/>
      </c:barChart>
      <c:catAx>
        <c:axId val="33050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57702"/>
        <c:crosses val="autoZero"/>
        <c:auto val="1"/>
        <c:lblAlgn val="ctr"/>
        <c:lblOffset val="100"/>
        <c:noMultiLvlLbl val="0"/>
      </c:catAx>
      <c:valAx>
        <c:axId val="51557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50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595-E020-48AC-8141-FF24A52C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618-F724-45CB-9738-0B2825D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CC3-E62A-43E6-A1DD-4A1CC7F7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BC8-76E1-42A1-9A83-EA3E49A5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F16-7E57-4AD7-A76E-9851346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D78-3B3B-4F01-979C-7FDECF00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55F-6046-4F63-A1B2-D37D8AA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E8F-54A8-4C03-9E29-8B8EB49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79F-AC7B-46E5-B4D3-8BD3EA62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AFF-E0BD-4803-83B6-E3D498A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5FB-3785-45AF-962B-58976D0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259-3753-452D-B7F2-267B435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9C9D1-B718-499C-A672-B8C4A1797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