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93249"/>
        <c:axId val="47776852"/>
      </c:barChart>
      <c:catAx>
        <c:axId val="21793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76852"/>
        <c:crosses val="autoZero"/>
        <c:auto val="1"/>
        <c:lblAlgn val="ctr"/>
        <c:lblOffset val="100"/>
        <c:noMultiLvlLbl val="0"/>
      </c:catAx>
      <c:valAx>
        <c:axId val="47776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93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1D1-1B28-4305-88C9-6D25E854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867-736F-4AE1-9CEF-EB0B71FA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47B-FDE7-4370-AC61-3374C49D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1B6-079A-48AA-AD2D-743F990D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388-662F-44DE-8B03-F8051D07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293-5388-4672-9989-0F4B5E8F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34E-6152-40FC-A4E1-2F300259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CBA-3CAE-4CE4-953A-96E88D56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EC7-265C-4F15-9F1A-D91A83E9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C84-770F-441E-8BD5-85444197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6FA-066C-460C-A7ED-E42A3658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465-9F86-425F-AB8E-ABD3F45F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C1381-FD26-45B0-82F5-9E2541FD28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