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32293"/>
        <c:axId val="76529561"/>
      </c:barChart>
      <c:catAx>
        <c:axId val="46532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29561"/>
        <c:crosses val="autoZero"/>
        <c:auto val="1"/>
        <c:lblAlgn val="ctr"/>
        <c:lblOffset val="100"/>
        <c:noMultiLvlLbl val="0"/>
      </c:catAx>
      <c:valAx>
        <c:axId val="76529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32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6D8-68E9-4A13-9535-D538BA2A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71E-6DE6-4808-BD3F-2D861507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FC3-07C7-4BA1-A169-0F5296BE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858-3AD7-4F2F-8895-27496F65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D38-8E79-46CC-86D7-FB860624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986-B88B-47D9-84F6-C8C73A9E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CD8-D89F-4874-84E3-8285A870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520-18C9-41D2-88AB-41EEE30A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1FC-4CD8-46FC-BFB1-0C6DAD6B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62D-D5E8-4349-8F14-00008FE5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50D-E53D-4FAC-A5A0-795F034A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60C-86AC-4E41-BAD1-32E6B1C7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85C2D-7E29-4836-9C4E-F7C844150E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