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92364"/>
        <c:axId val="82994094"/>
      </c:barChart>
      <c:catAx>
        <c:axId val="69792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4094"/>
        <c:crosses val="autoZero"/>
        <c:auto val="1"/>
        <c:lblAlgn val="ctr"/>
        <c:lblOffset val="100"/>
        <c:noMultiLvlLbl val="0"/>
      </c:catAx>
      <c:valAx>
        <c:axId val="82994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2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C0B-434A-4539-A80B-94FCE116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ED5-FE97-47B9-87C3-F22FC8C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5E3-3646-47E9-9B49-5FA9CFF5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EF5-B25C-4BD1-8306-4ECF1C26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0CB-79EF-40A0-B5E8-677A847C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865-42A9-41BC-9835-B1EDB15F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DDB-A8EB-4255-ABCF-88A0F38F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A43-1648-4B5C-BBD4-83C23D2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17D-6A61-4F15-A81A-17A204F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EC4-A7CC-4459-831B-9D37002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61D-6DD2-4824-930E-DB940A76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702-8AB3-4962-BD9B-FEDAC39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2A76A-6904-48C6-A667-55CA21BBC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