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92252"/>
        <c:axId val="84459541"/>
      </c:barChart>
      <c:catAx>
        <c:axId val="53492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9541"/>
        <c:crosses val="autoZero"/>
        <c:auto val="1"/>
        <c:lblAlgn val="ctr"/>
        <c:lblOffset val="100"/>
        <c:noMultiLvlLbl val="0"/>
      </c:catAx>
      <c:valAx>
        <c:axId val="84459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2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F7C-4DF8-4364-A1B0-6CCEB307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F6C-F5B4-4EAF-A964-78775F6D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A061-DA3B-447E-8D4E-B2490BD9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BE6-3978-48AA-98CD-BA56EE8A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148-9AA3-4CE8-B086-1BEECCD0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8BD-0065-43A1-B17D-177278CB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149-E1DF-477A-B5C8-FAEEFA2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0EF-D85D-4CC7-9C0E-BFEB9F9A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BAD4-7963-4D83-9B64-A315F81A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3C7-857C-4313-80A4-DDE2098E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991-61D3-4500-BBA5-8EA39942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7E3-106D-4DD0-8CFC-ACF20FBE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93A30-8BC9-4970-A7E9-B799440E28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