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75831"/>
        <c:axId val="92197069"/>
      </c:barChart>
      <c:catAx>
        <c:axId val="41575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97069"/>
        <c:crosses val="autoZero"/>
        <c:auto val="1"/>
        <c:lblAlgn val="ctr"/>
        <c:lblOffset val="100"/>
        <c:noMultiLvlLbl val="0"/>
      </c:catAx>
      <c:valAx>
        <c:axId val="92197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75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9388-59C2-4BEC-9A32-CFB8A15A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8C7-51F6-4176-B4D9-1F61B3E8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26B8-1C6A-463C-BCA6-88A096D7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A76-52F2-4FF4-8C4B-916E9144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6C3-9C75-4D40-8520-1E745870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C1B-B15A-4D14-B387-EB75AE44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03A-B90F-455A-9D26-E6E38D69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A18-3406-42F0-8DB6-DAF2F548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B592-E661-4430-A97F-D2F1A716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F14B-1B84-4DA9-82C2-F25ADA1F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8D6-F02F-434A-9830-A13883A5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D6F-FE94-4541-927A-15B9D3A2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96520-5319-468A-93EC-94763A13AF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