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290608"/>
        <c:axId val="72583556"/>
      </c:barChart>
      <c:catAx>
        <c:axId val="10290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83556"/>
        <c:crosses val="autoZero"/>
        <c:auto val="1"/>
        <c:lblAlgn val="ctr"/>
        <c:lblOffset val="100"/>
        <c:noMultiLvlLbl val="0"/>
      </c:catAx>
      <c:valAx>
        <c:axId val="72583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0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7CA-99D0-497E-85E0-1DF6B4D6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E88-8CB1-4F83-B10E-F443C76A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F0E-7777-4F65-BBEB-399D7496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810-E425-4BB4-85B4-022F5DF7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E0D-7182-4149-B383-A0A379B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73C-CB6D-4B65-9718-5500447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3C7-DA6A-4933-9F92-AA87C5F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780-8604-4F3F-BD71-4D7ED35D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387-EE01-4B11-80A2-C5D4D9B3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A41-F4EF-437A-8E9B-11FDA47C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E63-3134-4EC2-99B2-C16128C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645-CBB8-4006-8310-2EC701A5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CC6F7-1E1D-43FD-ABFF-45D5A6E1A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